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4B0-8B53-4335-9FC1-F3B04E29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119-3B89-46C1-90C5-01D38143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EDE-918F-4EBA-9EBD-4257BCAB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E30-3B71-4DA0-8F00-0B6E9C87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FA7-1585-45E1-948A-F5BA673A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91D-0369-4142-B51E-818BBAA0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F10-3A0D-4244-81D2-5229987B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FA6-4E73-4344-A95A-C49C39F4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902-ACA2-4AFD-B18E-8CE83E9D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7E1-8726-40E3-9CA5-0B48E990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34F0-913A-4E75-9CB0-CB4BDFDB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F0E-68D0-4C80-9311-73BDE55F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BADE-15B3-4C46-9A16-95D471222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rington"/>
              </a:rPr>
              <a:t>By: Katia Wa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rington"/>
              </a:rPr>
              <a:t>3/31/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52480" y="1066680"/>
            <a:ext cx="5715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Harrington"/>
              </a:rPr>
              <a:t>Astronomy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800600" y="762120"/>
            <a:ext cx="28195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u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386240" y="3152880"/>
            <a:ext cx="37152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gency FB"/>
              </a:rPr>
              <a:t>Da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791320" y="609480"/>
            <a:ext cx="23619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a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609480"/>
            <a:ext cx="2514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Nigh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590920" y="1447920"/>
            <a:ext cx="4495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Harrington"/>
              </a:rPr>
              <a:t>Seas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838080" y="114300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Stencil"/>
              </a:rPr>
              <a:t>solar Eclips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Stencil"/>
              <a:ea typeface="Stenci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410080" y="609480"/>
            <a:ext cx="3048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unar Eclip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95680" y="3095640"/>
            <a:ext cx="4648320" cy="376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114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95680" cy="3143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0" y="3124080"/>
            <a:ext cx="4495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7:47:58Z</dcterms:created>
  <dc:creator>kwagner</dc:creator>
  <dc:description/>
  <dc:language>en-US</dc:language>
  <cp:lastModifiedBy>kwagner</cp:lastModifiedBy>
  <dcterms:modified xsi:type="dcterms:W3CDTF">2011-04-01T17:49:04Z</dcterms:modified>
  <cp:revision>2</cp:revision>
  <dc:subject/>
  <dc:title>Slide 1</dc:title>
</cp:coreProperties>
</file>